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6D54-07B0-4870-B7C9-5B414F6C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446F-3125-4F1F-816B-8E9D856A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84E1-6C1C-4F0D-83BD-2DDB1167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C33B-748D-4EC8-BF5F-878EBCBF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5A94-9180-41DE-9DCD-045EE964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E10-81E6-4CB1-8B53-26FC14C8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089-E427-4663-B6C5-709921F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CC7C-50C6-4673-B9C9-3FDFA198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E63A-C2F7-41A6-856F-B2F1F9C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06CB-5D0D-43B5-AFF7-235048A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324-FD33-4030-B82B-4CB9CAF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2B1A-F984-43F2-A856-3A3344D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B61B-FBCF-4E66-AB85-1E0CC54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FD0-F1E7-414C-9F7A-C17749EE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2FBC-8203-484A-92CD-D0D258E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9A6-E7B6-478A-9625-4B5CA62B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FF5-D149-41D2-81D1-1493F08B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6E90-8B01-49B8-9A76-796B862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7AF5-F5EA-4BC8-B1FB-56543B3B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F7E2-B568-4607-9D4E-B1DFF510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6B41-4EDE-47F6-B02C-B320D73B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9C36-0823-4E64-A39B-26D3E80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C8D7B-C554-4B1A-AF3D-7F97648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42E5-A013-4AB8-8559-2241C0B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B87-EE2A-474F-9365-821F3F788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D613-AE15-43E6-9D7E-035415F7B2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: Rohan Krishnamurth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gara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estupendo,magnifico,y luj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rédi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ductor: roha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rito por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agen encontrada p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 agradecimiento especial 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fectos especiales de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ierte al español por:roh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orporado© 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grande,bonito,y magnif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4111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grande,incredible,y mod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305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lujoso,magnific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191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bañ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lujoso,bell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big bathroom photos"/>
          <p:cNvPicPr/>
          <p:nvPr/>
        </p:nvPicPr>
        <p:blipFill>
          <a:blip r:embed="rId1"/>
          <a:stretch/>
        </p:blipFill>
        <p:spPr>
          <a:xfrm>
            <a:off x="2438280" y="3352680"/>
            <a:ext cx="426744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a cuarto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muy grande,nevo,y bel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4229280" cy="2495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ello,nuevo,y 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87880" cy="3144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 una pat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onito,grande,y magnifi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jar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uy bonito,magnifico,y nue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18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6:17Z</dcterms:created>
  <dc:creator>krishnamurthiroh</dc:creator>
  <dc:description/>
  <dc:language>en-US</dc:language>
  <cp:lastModifiedBy>krishnamurthiroh</cp:lastModifiedBy>
  <dcterms:modified xsi:type="dcterms:W3CDTF">2012-03-16T13:22:46Z</dcterms:modified>
  <cp:revision>23</cp:revision>
  <dc:subject/>
  <dc:title>La casa</dc:title>
</cp:coreProperties>
</file>